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FFB-0EA7-427C-BE06-37085FC4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3BD-D911-4FF1-8E5E-EF2978A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4FA-0264-4ED2-92EF-92DED432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C48-D041-4148-AE93-37014979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F54-9B72-430A-AB78-BC6F768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91D-E759-431A-9226-204C680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491-2E71-4DE2-B518-0E193147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43A-686E-42E3-BBA8-C6F4336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9EA-5810-4A3B-9594-C91D8970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F42-CA6B-4609-B971-714D2660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6D7-6471-4171-B7F8-CCAD82A0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BE7-A019-454D-AA26-3AA3346C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1F58-9FB3-4B69-9931-A9B006289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 (699x544, 90Kb)"/>
          <p:cNvPicPr/>
          <p:nvPr/>
        </p:nvPicPr>
        <p:blipFill>
          <a:blip r:embed="rId1"/>
          <a:stretch/>
        </p:blipFill>
        <p:spPr>
          <a:xfrm>
            <a:off x="1714680" y="357120"/>
            <a:ext cx="6657840" cy="5181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185724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Ф,Сычков "Тройка" 19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 (600x475, 60Kb)"/>
          <p:cNvPicPr/>
          <p:nvPr/>
        </p:nvPicPr>
        <p:blipFill>
          <a:blip r:embed="rId1"/>
          <a:stretch/>
        </p:blipFill>
        <p:spPr>
          <a:xfrm>
            <a:off x="2928960" y="642960"/>
            <a:ext cx="5715000" cy="4524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1430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ван Пелевин "Катание в санях" 18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Сани мои, сани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езите меня сами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чему же только с горк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ы катаете меня?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 на горку, а на горку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днимать вас должен я?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© А.Чурба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 (699x478, 132Kb)"/>
          <p:cNvPicPr/>
          <p:nvPr/>
        </p:nvPicPr>
        <p:blipFill>
          <a:blip r:embed="rId1"/>
          <a:stretch/>
        </p:blipFill>
        <p:spPr>
          <a:xfrm>
            <a:off x="1571760" y="714240"/>
            <a:ext cx="6657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929040" y="571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юбит рисовать мороз;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твору щипать за нос;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ликует детвор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ямо с самого утр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сюду слышен звонкий смех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ыпал первый белый снег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ыжи и коньки, салазки -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утерьма всей зимней сказ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.Эра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img0.liveinternet.ru/images/foto/b/3/apps/0/755/755044_brewer_engines.jpg"/>
          <p:cNvPicPr/>
          <p:nvPr/>
        </p:nvPicPr>
        <p:blipFill>
          <a:blip r:embed="rId1"/>
          <a:stretch/>
        </p:blipFill>
        <p:spPr>
          <a:xfrm>
            <a:off x="214200" y="1000080"/>
            <a:ext cx="3971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00008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Ф.Сычков  "Катание с горы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 (450x600, 61Kb)"/>
          <p:cNvPicPr/>
          <p:nvPr/>
        </p:nvPicPr>
        <p:blipFill>
          <a:blip r:embed="rId1"/>
          <a:stretch/>
        </p:blipFill>
        <p:spPr>
          <a:xfrm>
            <a:off x="4286160" y="214200"/>
            <a:ext cx="428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2286000" y="1996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ышишь - мчатся сани, слышишь - сани мчатс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орошо с любимой в поле затеря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етерок веселый робок и застенчив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равнине голой катится бубенчи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х вы, сани, сани! Конь ты мои буланый!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де-то на поляне клен танцует пья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ы к нему подъедем, спросим - что такое?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станцуем вместе под тальянку тр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ергей Есенин, 19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003.radikal.ru/i202/1002/49/8900d1c954f9t.jpg"/>
          <p:cNvPicPr/>
          <p:nvPr/>
        </p:nvPicPr>
        <p:blipFill>
          <a:blip r:embed="rId1"/>
          <a:stretch/>
        </p:blipFill>
        <p:spPr>
          <a:xfrm>
            <a:off x="1500120" y="285840"/>
            <a:ext cx="7143840" cy="5391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3013560" y="600084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. Касаткин "Шутка" 18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001.radikal.ru/i194/1002/d5/a0f15bfd9da1.jpg"/>
          <p:cNvPicPr/>
          <p:nvPr/>
        </p:nvPicPr>
        <p:blipFill>
          <a:blip r:embed="rId1"/>
          <a:stretch/>
        </p:blipFill>
        <p:spPr>
          <a:xfrm>
            <a:off x="0" y="142920"/>
            <a:ext cx="8031240" cy="5384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ндрей Афанасьевич Егоров (1878-1954) "Зимний пейзаж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286000" y="196920"/>
            <a:ext cx="4572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сли спросить, какое изобретение человека самое древнее, все, наверное, назовут колесо А ведь древнее колеса – сани! Привязал два передних конца жердей к собаке, лошади или быку, а задние пусть волочатся по земле вот и готовы сани-волокуши. Каких только разновидностей не создано за историю человечества! Сани без полозьев - русские волокуши, тобогган канадских индейцев, кережка лопарей. Сани с полозьями -  дровни, нарты, сани с кузовом и верхом - балочок или кибит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XVIII веке пользовались популярностью сани с парусом – на них совершали прогулки по ледяным озерам. Сани "богдыхана Поднебесной империи", как именовал себя китайский император, были закрытыми, а тащили их восемь слуг, обутых в башмаки с длинными гвоздями на подош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России до конца 17 века торжественные выезды царей, патриархов даже летом были санными, так как езда на санях считалась более почётной, чем в экипа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286000" y="1305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е тепло в ушанке! Я хватаю санки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гору взбираюсь, под гору лечу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ля меня пустое, самое простое -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катиться стоя: видите - качу!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друг рванулись санки...Нет моей ушанк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снег она упала! Падаю и 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нки дальше мчатся, весело кружатс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негу веревка вьется, как зме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нашел ушанку, догоняю санки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гору взбираюсь, под гору лечу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ля меня пустое, самое простое -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катиться стоя: видите - кач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6434280" y="7142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витко Лев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s12.radikal.ru/i185/1002/6b/cea657630ea7.jpg"/>
          <p:cNvPicPr/>
          <p:nvPr/>
        </p:nvPicPr>
        <p:blipFill>
          <a:blip r:embed="rId1"/>
          <a:stretch/>
        </p:blipFill>
        <p:spPr>
          <a:xfrm>
            <a:off x="2000160" y="285840"/>
            <a:ext cx="6666120" cy="5332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107172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иколай Петрович Богданов-Бельский "Зима. Дети у сане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 (529x475, 53Kb)"/>
          <p:cNvPicPr/>
          <p:nvPr/>
        </p:nvPicPr>
        <p:blipFill>
          <a:blip r:embed="rId1"/>
          <a:stretch/>
        </p:blipFill>
        <p:spPr>
          <a:xfrm>
            <a:off x="2000160" y="714240"/>
            <a:ext cx="5038920" cy="45244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2379960" y="5643720"/>
            <a:ext cx="43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ександр Моравов "Зимний спорт" 19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52:57Z</dcterms:created>
  <dc:creator>Helen</dc:creator>
  <dc:description/>
  <dc:language>en-US</dc:language>
  <cp:lastModifiedBy>Helen</cp:lastModifiedBy>
  <dcterms:modified xsi:type="dcterms:W3CDTF">2010-10-24T17:15:43Z</dcterms:modified>
  <cp:revision>3</cp:revision>
  <dc:subject/>
  <dc:title>Слайд 1</dc:title>
</cp:coreProperties>
</file>